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C0D-F55A-4A63-9133-7F5542E9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492-C85A-43BC-8E3E-5E7CA374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B38-14BF-44C0-BEBA-DFD0057B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859-79C3-4EA0-86E9-143F18FC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C0E-1A89-4138-9274-42E19538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27B-EF6D-4115-9DB3-273F7ACC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700-E3D9-4606-80AA-563D5811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A80-E30D-4C02-8607-A0DA8F34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1F6-16CE-4412-B2DF-F0A19BD0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97E-B0A8-4B4A-B020-25811D57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457-98EA-4B92-94F3-8A0ABD88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9C4-8733-42B1-A835-02B7EF29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4569-9344-4945-82AE-744DEF7BC5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atematica.com.ro/ro/3-Proprietatile-functiei-exponentiale--a1687.html" TargetMode="External"/><Relationship Id="rId2" Type="http://schemas.openxmlformats.org/officeDocument/2006/relationships/hyperlink" Target="http://www.airinei.omad.ro/catmate/2FUNCTIA PUTERE CU EXPONENT NATURAL.pdf" TargetMode="External"/><Relationship Id="rId3" Type="http://schemas.openxmlformats.org/officeDocument/2006/relationships/hyperlink" Target="http://www.referat.ro/referate/download/Functia_exponentiala_si_logaritmica_9ace5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CTIA EXPONENTIA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TIE EL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CTIA EXPONENTIA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6933960" cy="838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680256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4019400"/>
            <a:ext cx="83073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229600" cy="237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8313840" cy="2962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" y="2590920"/>
            <a:ext cx="81709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076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FICUL FUNCTIEI EXPONENT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354800" cy="1476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66880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551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81080" y="1665360"/>
            <a:ext cx="5715000" cy="4451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464832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Z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alizând cele două grafice, constatăm că ele au următoarele proprietăţi 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raficele se găsesc deasupra axei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Ox 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ec prin punctul de coordonate (0, 1) 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Graficul fiecărei funcţii este construit dintr-o singură ramură care ,,urcă’’ sau ,,coboară ’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raficul se apropie din ce în ce mai mult de axa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Ox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zitivă dacă dacă 0&lt;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&lt;1 şi d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Ox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negativă dacă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&gt;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bliograf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matematica.com.ro/ro/3-Proprietatile-functiei-exponentiale--a1687.html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www.airinei.omad.ro/catmate/2FUNCTIA%20PUTERE%20CU%20EXPONENT%20NATURAL.pdf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http://www.referat.ro/referate/download/Functia_exponentiala_si_logaritmica_9ace5.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20:36:15Z</dcterms:created>
  <dc:creator>Jeni</dc:creator>
  <dc:description/>
  <dc:language>en-US</dc:language>
  <cp:lastModifiedBy>User</cp:lastModifiedBy>
  <dcterms:modified xsi:type="dcterms:W3CDTF">2011-01-14T10:02:35Z</dcterms:modified>
  <cp:revision>2</cp:revision>
  <dc:subject/>
  <dc:title>FUNCTIA EXPONENTIALA</dc:title>
</cp:coreProperties>
</file>